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B1E60FD-77DE-40D0-9F9C-B3900BD0E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AC1B-DA7F-4681-874D-6911B10C67C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BF2C-EDDA-4135-B69E-AB76E9C6B42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eometric does still work – we will see that later today – but graphical seems friend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E1A3-940A-4C8D-A041-855AD087D28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7953-1216-4999-B103-B633999C3D2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ed to graphical miscon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F8DE-E8BA-4FD9-B2CA-DC659A11D70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Bullet 4 re use of vertex form: . . .which is demonstrated through students using the same process (algebraic to graphical) regardless of the tas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C3BF-BE83-49E7-966D-CAA5798BAD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ullet 2: Say "Quadratic" and the visual of a parabola, a y=x^2 function equation, and the quadratic formula all appear in the student's mind's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FE91-D25B-4499-B846-0DD26476D9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738C-8021-44F9-A568-6D82957A26B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44A9-374D-4508-B985-F53077B4F0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ED9C-320B-4925-A0C1-CBC888C401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35AD-35EA-4CC1-B436-C2A3CCE1192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BE5-C7B0-4FE5-A4F4-25914AC06F7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3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0704-F923-4F38-A6B2-D387759A52F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5F8F-1D9F-4EAF-9F9F-2EF8C9C69B3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7683-101F-459F-A624-FEB6719A0D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4EB7-D487-439E-928B-BB29FA7567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5 min for question completion and 3 minutes of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EC75-B885-4E4B-BEA2-FDFA2B84FD2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sible prompts: Compare graphs, equations, answers… Allow 5 minutes for each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truggle: Fail to connect the graphical representation to other re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0E35-46C0-4AFF-B125-662B8CC6E29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FD62-7433-45AC-BA17-9DF364579FC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17E4-388A-4332-B270-2E24452AEE4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3C33-7800-4418-8BD0-84A4639B538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C781-EE47-4DDD-BD1A-7635DA5CDB6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E393-7A90-40B6-8544-E795E3F9F85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D7CE-4A0C-43CF-A380-2AD26DAED87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92D-9B36-4E2A-8719-85F4218900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uide whole group in the summary of the misconceptions/struggles/partial understandings, perhaps assign tables to discuss one of the items with whole group if there isn’t a lot of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imer to keep participants on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gs to sh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ccess CLIPS on the edugains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djust the fram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uster List – the meaning of grey v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each of the three Icons: Calculator-variety of types, Wrench -tools, Book – on-line math gloss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the video and explain how there is a video for each CLIPS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the three new Icons: Chess – games, Link – other files, Apple – 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lk about how the CLIPS in this cluster are set up, show sequence, select first CLIP to show that each CLIP has a number of activities, do not show any activities go to next pp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earless speaking and lis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2A67-5A30-4E6F-B0FF-ED7EF6DD9B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8B3-67AC-40A1-9D1D-7DE51B72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9CE-D7B9-4AA0-8C1A-8356ECD5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2E4-CE39-4C13-AD4D-9E9DEA2C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ED1-2077-48FE-BC54-11B75AB0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52AD-932E-4C9E-8E05-E3DBB212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748-842F-4565-B259-A9B4ABD4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FBBF-DA0B-4D34-AA01-03FCD89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F8EB-41C4-4292-80C1-1A6107D8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B8CB-6C9B-4225-96F0-9ECB876E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333B-FE33-40E6-B633-864BC890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942D-5286-4D67-91A9-799AF92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5A0-4832-4A7A-83E3-9EB86EBE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1454-1A76-49DF-866B-1B966AA8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D963-8BEB-4BE7-BB54-89708F15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AE0A-6EB2-4C11-A794-2AF368F6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8A8-7522-4295-BF88-31FFC460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337F-0EE5-4124-85DA-C2B7E7E2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4A0-A4A6-4636-A5D4-8235E2D9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878-B3B8-4019-96D3-9300B323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D85-1C7F-467A-B462-8C0114F5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121-E87B-455F-AF3A-D4DD0B15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847-0082-47EE-A71E-5560B0D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4D4-FF30-4BC1-9EA3-CE5302F9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9EF-3F5F-4DE7-B146-432A450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6C75-54FC-4F39-BE5A-A7DA9424612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E39D-85AA-4572-96D3-B2C301E671F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D483-FE36-494D-B83C-D5618EFFB33A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 2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Facilitator nam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????</a:t>
            </a:r>
            <a:r>
              <a:rPr b="0" lang="en-CA" sz="60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53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1400" spc="-1" strike="noStrike">
                <a:solidFill>
                  <a:srgbClr val="0d469b"/>
                </a:solidFill>
                <a:latin typeface="Arial"/>
              </a:rPr>
              <a:t>???? </a:t>
            </a:r>
            <a:r>
              <a:rPr b="0" lang="en-CA" sz="800" spc="-1" strike="noStrike">
                <a:solidFill>
                  <a:srgbClr val="0d469b"/>
                </a:solidFill>
                <a:latin typeface="Arial"/>
              </a:rPr>
              <a:t>????</a:t>
            </a:r>
            <a:endParaRPr b="0" lang="en-US" sz="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I teach factoring, my students seem to struggle most wi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algebraic manipulation (selecting the numbers to generate the correct sum and produc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ng the algebraic to the concret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electing the appropriate metho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on to solving equations – zeros/roo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mpleting the squar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ultiplication fa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 for Algebraic Reaso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400" y="164304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(e.g., predicting) generalized mathematical relationships and change using words and symb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fferent representations of relationships (e.g., numeric, graphic, geometric, algebraic, verbal, concrete/pictorial)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, but not always, allow us to predict other information about that relationship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95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 of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9280" y="1366920"/>
            <a:ext cx="871704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gebraic reasoning can help you to describe and analyze generalized quadratic relations and change using words and symb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fferent representations of quadratic relations highlight different characteristics and serve different purposes. Comparing quadratic relations with other relations (e.g. linear) provides insight into the defining characteristics of a quadratic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aring quadratic relations with other relations (e.g. linear) provides insight into the defining characteristics of a quadratic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mited information about a quadratic relation can sometimes, but not always, reveal other information about that re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udent Strugg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1600" y="124128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artial understanding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7040" y="4253040"/>
            <a:ext cx="803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iscuss at your table what each of these might look like in your classroom when you are teaching Quadratic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and Graphical Represent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2231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fail to connect to properties of class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/power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221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and Algebraic Representations 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44600" y="2598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the use of V(h,k) in the form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different ways of representing quadratic relations (algebraic and graphical) and have never built the bridge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difficulty holding two (or more) different representations/ideas about the same concept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shifts horizontally or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,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 a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algebraic to graphic doesn’t result in the same depth of 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the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 on yesterday'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understandings,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2800" y="23065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Recognize that different representations of a quadratic relation highlight different characteristics or behaviours and can serve different purpo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47464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e will now look at one way a lesson on quadratic relations could go  . . .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inds On. . 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3(x + 2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– 2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+ 4x +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12040" y="1676520"/>
            <a:ext cx="2049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553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36680"/>
            <a:ext cx="868680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ion!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one is going to receive a graph of a quadratic relation with its equation.  The equation is given in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different forms. We will be looking to see what information each form gives, if any, about the parabola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y = 3x</a:t>
            </a:r>
            <a:r>
              <a:rPr b="0" lang="en-CA" sz="2800" spc="-1" strike="noStrike" baseline="30000">
                <a:solidFill>
                  <a:srgbClr val="ff33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+6x - 9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 = 3 (x + 3)(x – 1)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y = 3(x + 1)</a:t>
            </a:r>
            <a:r>
              <a:rPr b="0" lang="en-CA" sz="2800" spc="-1" strike="noStrike" baseline="30000">
                <a:solidFill>
                  <a:srgbClr val="ff3300"/>
                </a:solidFill>
                <a:latin typeface="Arial"/>
              </a:rPr>
              <a:t>2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 – 1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26080" y="1440000"/>
            <a:ext cx="2049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the information requested below the graph given to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Discussion (not part of classroom less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How open do you find these ques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Rate on a scale of 1 – 10 where 10 is very 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Compare your functions (similarities? differences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Compare your functions (similarities? differences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only the people who have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4. On chart paper record the important info about your 3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x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rcRect l="27436" t="40117" r="26003" b="19771"/>
          <a:stretch/>
        </p:blipFill>
        <p:spPr>
          <a:xfrm>
            <a:off x="1873080" y="3338640"/>
            <a:ext cx="5970600" cy="32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class, decide how the chart papers could be arranged to help make patter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nformation about the graph of a parabola does each form of the equation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-up exit card: Which form do you think is most 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List question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25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75"/>
                            </p:stCondLst>
                            <p:childTnLst>
                              <p:par>
                                <p:cTn id="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90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50"/>
                            </p:stCondLst>
                            <p:childTnLst>
                              <p:par>
                                <p:cTn id="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50"/>
                            </p:stCondLst>
                            <p:childTnLst>
                              <p:par>
                                <p:cTn id="2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2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7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2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700"/>
                            </p:stCondLst>
                            <p:childTnLst>
                              <p:par>
                                <p:cTn id="47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4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325"/>
                            </p:stCondLst>
                            <p:childTnLst>
                              <p:par>
                                <p:cTn id="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1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775"/>
                            </p:stCondLst>
                            <p:childTnLst>
                              <p:par>
                                <p:cTn id="5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50"/>
                            </p:stCondLst>
                            <p:childTnLst>
                              <p:par>
                                <p:cTn id="56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30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700"/>
                            </p:stCondLst>
                            <p:childTnLst>
                              <p:par>
                                <p:cTn id="6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75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75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5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, the activity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overall and specific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algebraic representation do you think is best for graphing? For which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on the exit board on y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67000" y="16002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17720" y="1771560"/>
            <a:ext cx="35067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common misunderstandings that students have about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awareness of Trig CLIPS and make connections between CLIP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posing questions based on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On your own brainstorm potential misconceptions/struggles/partial understandings of trigonometric functions that students hav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ith a partner compare, contrast, summarize your lis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In table groups, collate and post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12000" y="4724280"/>
            <a:ext cx="16588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tour of CLIPS: Periodic &amp; Sine Functions and Their 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95640" y="3392640"/>
            <a:ext cx="2197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Action!  Connect and Practice</a:t>
            </a:r>
            <a:r>
              <a:rPr b="0" lang="en-US" sz="28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n pairs, choose a specific expectation from the trigonometric functions strand from any Grade 11 or 12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write the expectation as a learning goal to support the development of on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reate a question that would help students to meet the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xpectation, learning goal and question on char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!  Peer Review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760" y="215568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a different pair and exchange your learning goals and questions, and provide feedback for edi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call the Big Ideas of Quadratic and Trigonometric Rela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Q1  Algebraic reasoning can help you to describe and analyze generalized quadratic relations and change using words and symbol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2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t representations of quadratic relations highlight different characteristics and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: Ref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learning goal question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wo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27280" y="209700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call the Big Ideas of Quadratic and Trigonometric Rela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Q3  Comparing quadratic relations with other relations (e.g. linear) provides insight into the defining characteristics of a quadratic relation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imited information about a quadratic relation can sometimes, but not always, reveal other information about that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call the Big Ideas of Quadratic and Trigonometric Rela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1  Trigonometric relations can help you to describe and analyze periodic relationships and change using word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call the Big Ideas of Quadratic and Trigonometric Rela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3  The periodic nature of trigonometric relations necessitates the creation of a new class of rel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4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9964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What Big Idea might the author of the question have been addressing with the question?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027240"/>
            <a:ext cx="403848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2998800"/>
            <a:ext cx="40384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rom your facilitat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question that I might ask of my students to address a big idea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rite an equation of a quadratic that has a vertex in the third quadran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hat does x=5 mea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Given a graph/table/expression/algebra tile representation, which are quadratic?  How do you know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0T22:08:10Z</dcterms:modified>
  <cp:revision>145</cp:revision>
  <dc:subject/>
  <dc:title>Math GAINS 2008-09</dc:title>
</cp:coreProperties>
</file>